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86B-6F01-462C-B6F3-47C47073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EB9-B8EC-417C-9A83-5D1E551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4DC-0BEF-4439-A889-92E58F5F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41B-822D-41F5-AD5E-A6DA91A4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289-26FB-47C3-8E56-DFD42E12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F89-E657-461D-B296-8BDCCA1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752-F58A-4BEF-B8DA-77977D59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240-5815-49FC-A7D9-A94C5A7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39D-2F64-4F65-9433-5EC0179E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BCB1-99E8-4807-AC9A-6A090B71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50F-031B-4D56-AFC1-BA0476AE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595-E55D-4D57-9855-8F63762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BAC-570F-4405-B6A9-0DCA0003F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ere a …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is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00911_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384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re any +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复数 …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are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A00907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590480" cy="1606680"/>
          </a:xfrm>
          <a:prstGeom prst="rect">
            <a:avLst/>
          </a:prstGeom>
          <a:ln w="0">
            <a:noFill/>
          </a:ln>
        </p:spPr>
      </p:pic>
      <p:pic>
        <p:nvPicPr>
          <p:cNvPr id="83" name="NA01573_" descr=""/>
          <p:cNvPicPr/>
          <p:nvPr/>
        </p:nvPicPr>
        <p:blipFill>
          <a:blip r:embed="rId2"/>
          <a:stretch/>
        </p:blipFill>
        <p:spPr>
          <a:xfrm>
            <a:off x="7912080" y="511668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-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’s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piano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am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the 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there any pictures on the w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 are on the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mall tabl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48640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V set /recorder /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desk, a chair and a small table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905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is. It’s against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, there isn’t. But there’s a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a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between the bed and the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9625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502920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0910_" descr=""/>
          <p:cNvPicPr/>
          <p:nvPr/>
        </p:nvPicPr>
        <p:blipFill>
          <a:blip r:embed="rId1"/>
          <a:stretch/>
        </p:blipFill>
        <p:spPr>
          <a:xfrm>
            <a:off x="0" y="0"/>
            <a:ext cx="116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… .There is a …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… is  beside/between/… the …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A00908_" descr=""/>
          <p:cNvPicPr/>
          <p:nvPr/>
        </p:nvPicPr>
        <p:blipFill>
          <a:blip r:embed="rId1"/>
          <a:stretch/>
        </p:blipFill>
        <p:spPr>
          <a:xfrm>
            <a:off x="7772400" y="0"/>
            <a:ext cx="165744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NA00882_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01107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20105400">
            <a:off x="1752480" y="1294920"/>
            <a:ext cx="5943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-by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s and roo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2 What’s in your apart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0863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737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你的客厅里有什么？我的客厅里有两个沙发、一个茶几、 一台电视机和一架钢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卧室里有什么？有一个床、一把椅子和一个书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桌上有什么？ 有一些茶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your living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ofas,a tea table and a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chair and a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on the desk?There are some cup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A01573_" descr=""/>
          <p:cNvPicPr/>
          <p:nvPr/>
        </p:nvPicPr>
        <p:blipFill>
          <a:blip r:embed="rId1"/>
          <a:stretch/>
        </p:blipFill>
        <p:spPr>
          <a:xfrm>
            <a:off x="7912080" y="512460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i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lamp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on the de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Yes , there is./No, there isn’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There is a lamp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between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bed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and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so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1669_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524240" cy="1330200"/>
          </a:xfrm>
          <a:prstGeom prst="rect">
            <a:avLst/>
          </a:prstGeom>
          <a:ln w="0">
            <a:noFill/>
          </a:ln>
        </p:spPr>
      </p:pic>
      <p:pic>
        <p:nvPicPr>
          <p:cNvPr id="54" name="HH01228_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19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3276720" cy="1735200"/>
          </a:xfrm>
          <a:prstGeom prst="rect">
            <a:avLst/>
          </a:prstGeom>
          <a:ln w="0">
            <a:noFill/>
          </a:ln>
        </p:spPr>
      </p:pic>
      <p:pic>
        <p:nvPicPr>
          <p:cNvPr id="57" name="HH00741_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905040" cy="18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5909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bed ? It’s near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 bed near the d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 chair </a:t>
            </a:r>
            <a:r>
              <a:rPr b="0" lang="en-US" sz="4800" spc="-1" strike="noStrike">
                <a:solidFill>
                  <a:srgbClr val="ff5050"/>
                </a:solidFill>
                <a:latin typeface="Times New Roman"/>
              </a:rPr>
              <a:t>bes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des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there is .It’s beside the desk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288_" descr=""/>
          <p:cNvPicPr/>
          <p:nvPr/>
        </p:nvPicPr>
        <p:blipFill>
          <a:blip r:embed="rId1"/>
          <a:stretch/>
        </p:blipFill>
        <p:spPr>
          <a:xfrm>
            <a:off x="6573960" y="609480"/>
            <a:ext cx="25700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ia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t’s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N00544_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8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is a lamp </a:t>
            </a: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abo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S00288_" descr=""/>
          <p:cNvPicPr/>
          <p:nvPr/>
        </p:nvPicPr>
        <p:blipFill>
          <a:blip r:embed="rId1"/>
          <a:stretch/>
        </p:blipFill>
        <p:spPr>
          <a:xfrm>
            <a:off x="6095880" y="3189240"/>
            <a:ext cx="3048120" cy="2984400"/>
          </a:xfrm>
          <a:prstGeom prst="rect">
            <a:avLst/>
          </a:prstGeom>
          <a:ln w="0">
            <a:noFill/>
          </a:ln>
        </p:spPr>
      </p:pic>
      <p:pic>
        <p:nvPicPr>
          <p:cNvPr id="68" name="HH00828_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2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H01672_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844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AN02354_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AN02354_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AN02354_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AN02354_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AN02354_" descr=""/>
          <p:cNvPicPr/>
          <p:nvPr/>
        </p:nvPicPr>
        <p:blipFill>
          <a:blip r:embed="rId6"/>
          <a:stretch/>
        </p:blipFill>
        <p:spPr>
          <a:xfrm>
            <a:off x="7620120" y="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HH01672_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3268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15:19Z</dcterms:created>
  <dc:creator>jxh</dc:creator>
  <dc:description/>
  <dc:language>en-US</dc:language>
  <cp:lastModifiedBy>jxh</cp:lastModifiedBy>
  <dcterms:modified xsi:type="dcterms:W3CDTF">2002-05-22T14:59:36Z</dcterms:modified>
  <cp:revision>20</cp:revision>
  <dc:subject/>
  <dc:title>Revision </dc:title>
</cp:coreProperties>
</file>